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13.jpeg" ContentType="image/jpeg"/>
  <Override PartName="/ppt/media/image27.jpeg" ContentType="image/jpeg"/>
  <Override PartName="/ppt/media/image30.wmf" ContentType="image/x-wmf"/>
  <Override PartName="/ppt/media/image10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9.jpeg" ContentType="image/jpeg"/>
  <Override PartName="/ppt/media/image6.wmf" ContentType="image/x-wmf"/>
  <Override PartName="/ppt/media/image17.jpeg" ContentType="image/jpeg"/>
  <Override PartName="/ppt/media/image11.wmf" ContentType="image/x-wmf"/>
  <Override PartName="/ppt/media/image9.wmf" ContentType="image/x-wmf"/>
  <Override PartName="/ppt/media/image31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3.wmf" ContentType="image/x-wmf"/>
  <Override PartName="/ppt/media/image15.jpeg" ContentType="image/jpeg"/>
  <Override PartName="/ppt/media/image23.jpeg" ContentType="image/jpeg"/>
  <Override PartName="/ppt/media/image4.wmf" ContentType="image/x-wmf"/>
  <Override PartName="/ppt/media/image14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0.jpeg" ContentType="image/jpeg"/>
  <Override PartName="/ppt/media/image24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0B66-3C44-4153-A974-D0AEC0137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AE99-7D3D-4C26-8619-4A22C9FCD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318-C3BC-4AF1-B1B8-D139D770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7191-BF4B-41C3-9DF2-A3F52F3C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DDF-64B0-491E-A17B-95E35CA2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7BA-FDD3-4934-AF52-93DED67C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BC28-1386-48E4-AA5F-9D3C67A9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6B9D-FD50-431B-8A9B-61AA00BE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4D3C-88C2-4930-97EC-562B5289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EE0C-FC57-4F06-935D-A6B285A4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4BE2-1691-41A9-AEB7-6AC23E13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055A-26A9-41B7-B937-AAD6D32A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C8D0-E479-46B6-A2CF-DC2EF738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71D-E603-4861-82F6-6E3C8B63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4DD0-B39A-4B7F-96A1-D8C342CA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C9F3-63C0-467E-8C49-6325AD71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100E-101F-4CFB-812C-526BCAF8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3273-71CE-4A55-9FDA-B6053038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A5CC-804B-406A-B64A-ABF48C15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A171B-64B0-4B18-890B-FA967E31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48A6-BBF6-49CB-8F3D-CCB6B489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7CA2B-862B-4094-93DA-C323D3CC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93157-4FE9-4119-A891-A4EB6F2D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FEF4D-F53F-4E82-AC92-7E3286FA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EA2-D871-4CFA-9F2F-1201A6AE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CAD15-3725-4B40-8719-9EEEB4D6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BBD6-2A2D-4536-BD8D-23C7CE3F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4EB5-E17D-4DB0-9942-D89C782A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C5483-BAA4-492B-855A-DD1C89FF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AE6CB-604B-4BA5-96A1-724DB938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A892D-C961-4843-AEA9-2C1804E5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55305-AE82-48E4-A2D2-78AD2C48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F649-6CCB-4E29-8C6F-16F7856F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35DD-AC46-4718-A744-69B65527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15DBE-80E0-4AA1-96F6-C1D846D5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6E9-9939-477F-B607-69CA38B1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38737-677E-40A2-AC9D-7E7F9C00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D9D7-1B1C-468B-8C81-2D8A0313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0E93D-75AB-4811-B3D0-D8F21F83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A47AC-3261-4B8E-8482-B9041B8B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EBC1E-F0CE-4124-B598-645AC9D9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42205-4B6D-4459-8D0A-F93E1832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631B8-7F7C-45A0-AF2A-19E60969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83AD9-686E-421D-A3F9-579B8522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97B18-F253-43CE-A812-E979DF66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F8643-8CA9-4E18-AAD7-623E3E16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A13-E73E-4656-9B40-211FFFFB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18454-6FA3-4DDF-9E9A-24B537CC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17DAF-EFE4-44DC-9BDF-A4638416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EADCA-7CA9-458F-A7B4-93E7E64E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63CF3-E44C-412B-830A-93BC5E28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1F0DE-6E95-499D-BF1E-0A8BD7E0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112DF-E1B0-4795-859F-F15C4537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E3EC8-EAE0-4D59-823A-7B570CE2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C7356-8390-4D89-BD2A-F3D1CFCC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18C7B-35C0-4E11-9C34-901F220B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FFDD2-25F2-44F3-AFCF-E2B5D5A1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3A1-79C5-47C3-AAE1-962B996B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B43E6-7AA5-4EED-8BE5-07E1F5BB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A9D-2414-4043-9C1D-5602C923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E46-9F5A-4A38-AAF2-340DFF67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43AA-D448-40E1-BE45-BCA399ED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8718-BC71-4347-996D-8E959C6EB5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E124-0643-4808-A302-84F838BD935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7CD0-39D3-437D-AAD0-B639A5BEA93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0AD3-3C2C-4122-BEBC-B7C2D43556C0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39A5-E1F7-4084-90D8-1828A38C8B3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ridges4kids.org/images/ring-around-rosie.gif&amp;imgrefurl=http://www.bridges4kids.org/Links.html&amp;h=166&amp;w=192&amp;sz=4&amp;tbnid=Cke5jMn5wmEJ:&amp;tbnh=84&amp;tbnw=97&amp;hl=en&amp;start=3&amp;prev=/images%3Fq%3Dring%2Baround%2Bthe%2Brosie%26hl%3Den%26lr%3D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rtve.es/tve/b/catalunya/index.htm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rtve.es/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hyperlink" Target="http://www.rtve.es/tve/b/loslunnis/lunalunera.htm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www.rtve.es/tve/b/loslunnis/personajes.htm" TargetMode="External"/><Relationship Id="rId10" Type="http://schemas.openxmlformats.org/officeDocument/2006/relationships/image" Target="../media/image18.jpeg"/><Relationship Id="rId11" Type="http://schemas.openxmlformats.org/officeDocument/2006/relationships/hyperlink" Target="http://www.rtve.es/tve/b/loslunnis/tierra.htm" TargetMode="External"/><Relationship Id="rId12" Type="http://schemas.openxmlformats.org/officeDocument/2006/relationships/image" Target="../media/image19.jpeg"/><Relationship Id="rId13" Type="http://schemas.openxmlformats.org/officeDocument/2006/relationships/hyperlink" Target="http://www.rtve.es/tve/b/loslunnis/recreo/recreo.htm" TargetMode="External"/><Relationship Id="rId14" Type="http://schemas.openxmlformats.org/officeDocument/2006/relationships/image" Target="../media/image20.jpeg"/><Relationship Id="rId15" Type="http://schemas.openxmlformats.org/officeDocument/2006/relationships/hyperlink" Target="http://www.rtve.es/tve/b/loslunnis/albumdefotos/fotos.htm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www.rtve.es/tve/b/loslunnis/cancioneslunnis.htm" TargetMode="External"/><Relationship Id="rId18" Type="http://schemas.openxmlformats.org/officeDocument/2006/relationships/image" Target="../media/image22.jpeg"/><Relationship Id="rId19" Type="http://schemas.openxmlformats.org/officeDocument/2006/relationships/hyperlink" Target="http://www.rtve.es/tve/b/loslunnis/carta.htm" TargetMode="External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jpeg"/><Relationship Id="rId24" Type="http://schemas.openxmlformats.org/officeDocument/2006/relationships/image" Target="../media/image27.jpe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oleObject" Target="../embeddings/oleObject1.bin"/><Relationship Id="rId28" Type="http://schemas.openxmlformats.org/officeDocument/2006/relationships/image" Target="../media/image30.wmf"/><Relationship Id="rId2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6" descr="http://img06.deviantart.net/76a5/i/2013/031/7/6/music_notes_stock_by_bassgeisha-d3h9mpv.jpg"/>
          <p:cNvPicPr/>
          <p:nvPr/>
        </p:nvPicPr>
        <p:blipFill>
          <a:blip r:embed="rId1"/>
          <a:stretch/>
        </p:blipFill>
        <p:spPr>
          <a:xfrm>
            <a:off x="380880" y="1754280"/>
            <a:ext cx="857268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0" y="502920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2"/>
                </a:solidFill>
                <a:latin typeface="Comic Sans MS"/>
                <a:ea typeface="Times New Roman"/>
              </a:rPr>
              <a:t>Karen Martín Sánch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2"/>
                </a:solidFill>
                <a:latin typeface="Comic Sans MS"/>
                <a:ea typeface="Times New Roman"/>
              </a:rPr>
              <a:t>South Seneca 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2"/>
                </a:solidFill>
                <a:latin typeface="Comic Sans MS"/>
                <a:ea typeface="Times New Roman"/>
              </a:rPr>
              <a:t>ksanchez@southseneca.or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419720" y="495288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2"/>
                </a:solidFill>
                <a:latin typeface="Comic Sans MS"/>
                <a:ea typeface="Times New Roman"/>
              </a:rPr>
              <a:t>NYSAFLT Rochester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2"/>
                </a:solidFill>
                <a:latin typeface="Comic Sans MS"/>
                <a:ea typeface="Times New Roman"/>
              </a:rPr>
              <a:t>Rochester, 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2"/>
                </a:solidFill>
                <a:latin typeface="Comic Sans MS"/>
                <a:ea typeface="Times New Roman"/>
              </a:rPr>
              <a:t>March 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1143000"/>
            <a:ext cx="914400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antando para Apre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80880" y="609480"/>
            <a:ext cx="8001000" cy="43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nto, pinto, gara p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cha las vacas al veinticin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los bueys a veintisé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que callej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oralej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arrate niña de esta ore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~~~~~~~~~~~~~~~~~~~~~~~~~~~~~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62040" y="0"/>
            <a:ext cx="56390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INTO PINT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80880" y="609480"/>
            <a:ext cx="8001000" cy="43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to, pito, gorgor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e las vacas al veinticin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los bueys a veintisé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que callej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moralej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conde la mano que viene la viej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~~~~~~~~~~~~~~~~~~~~~~~~~~~~~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ITO PITO – VERSIÓN ALTERNATIV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026"/>
          <p:cNvSpPr/>
          <p:nvPr/>
        </p:nvSpPr>
        <p:spPr>
          <a:xfrm>
            <a:off x="304920" y="1143000"/>
            <a:ext cx="754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San Pedro como era calvo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Le picaban los mosquito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Y su padre le decí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“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¡ Ponte el gorro Perriquito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que te pican los mosquitos!”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027" descr="C:\WINDOWS\Application Data\Microsoft\Media Catalog\Downloaded Clips\cl1\AN04220_.wmf"/>
          <p:cNvPicPr/>
          <p:nvPr/>
        </p:nvPicPr>
        <p:blipFill>
          <a:blip r:embed="rId1"/>
          <a:stretch/>
        </p:blipFill>
        <p:spPr>
          <a:xfrm>
            <a:off x="4343400" y="4724280"/>
            <a:ext cx="1362240" cy="18129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SAN PEDRO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80880" y="1752480"/>
            <a:ext cx="80773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aballito, cabal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aballito, bandal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amos a la montañ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Eres tú quien yo más qui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~~~~~~~~~~~~~~~~~~~~~~~~~~~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is is a small poem usually used with little kids as they were bounced on someone’s lap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3" descr="C:\WINDOWS\Application Data\Microsoft\Media Catalog\Downloaded Clips\cl3\BD07898_.wmf"/>
          <p:cNvPicPr/>
          <p:nvPr/>
        </p:nvPicPr>
        <p:blipFill>
          <a:blip r:embed="rId1"/>
          <a:stretch/>
        </p:blipFill>
        <p:spPr>
          <a:xfrm>
            <a:off x="6400800" y="609480"/>
            <a:ext cx="2266920" cy="2590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ABALLIT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0" y="17524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Cinco lobitos tiene la lob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Cinco lobitos detrás de la escob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Cinco lavó, cinco peinó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 todos ellos al colegio mandó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C:\WINDOWS\Application Data\Microsoft\Media Catalog\Downloaded Clips\cl38\j0140657.wmf"/>
          <p:cNvPicPr/>
          <p:nvPr/>
        </p:nvPicPr>
        <p:blipFill>
          <a:blip r:embed="rId1"/>
          <a:stretch/>
        </p:blipFill>
        <p:spPr>
          <a:xfrm>
            <a:off x="6902280" y="3352680"/>
            <a:ext cx="2241720" cy="31752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OS CINCO LOBITO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1676520"/>
            <a:ext cx="6858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eep beep bee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n un coche fe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eep beep bee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Pero no me import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eep beep bee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Porque llevo torta!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eep beep beep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3" descr="C:\My Documents\My Pictures\payasos.jpg"/>
          <p:cNvPicPr/>
          <p:nvPr/>
        </p:nvPicPr>
        <p:blipFill>
          <a:blip r:embed="rId1"/>
          <a:stretch/>
        </p:blipFill>
        <p:spPr>
          <a:xfrm>
            <a:off x="5181480" y="380880"/>
            <a:ext cx="3581640" cy="2414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C:\My Documents\My Pictures\payasos2.jpg"/>
          <p:cNvPicPr/>
          <p:nvPr/>
        </p:nvPicPr>
        <p:blipFill>
          <a:blip r:embed="rId2"/>
          <a:stretch/>
        </p:blipFill>
        <p:spPr>
          <a:xfrm>
            <a:off x="5105520" y="2819520"/>
            <a:ext cx="3647880" cy="25812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VAMOS DE PASE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838080" y="133344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o, dos, tres y cuat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 vecina tiene un ga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 lava, lo pein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 manda por taba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da de mere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¡Chicha y pan!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3" descr="C:\WINDOWS\Application Data\Microsoft\Media Catalog\Downloaded Clips\cl2\PE07293_.wmf"/>
          <p:cNvPicPr/>
          <p:nvPr/>
        </p:nvPicPr>
        <p:blipFill>
          <a:blip r:embed="rId1"/>
          <a:stretch/>
        </p:blipFill>
        <p:spPr>
          <a:xfrm>
            <a:off x="5486400" y="3581280"/>
            <a:ext cx="251928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914400" y="533520"/>
            <a:ext cx="441972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ngo tengo ten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ú no tienes na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ngo tres ovej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na cabañ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a me da lech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a me da lana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otra mantequill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da la sema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ballito blan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ácame de aquí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lévame a ca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ónde yo nací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3" descr="C:\WINDOWS\Application Data\Microsoft\Media Catalog\Downloaded Clips\cl0\BS01225_.wmf"/>
          <p:cNvPicPr/>
          <p:nvPr/>
        </p:nvPicPr>
        <p:blipFill>
          <a:blip r:embed="rId1"/>
          <a:stretch/>
        </p:blipFill>
        <p:spPr>
          <a:xfrm>
            <a:off x="5029200" y="1676520"/>
            <a:ext cx="3505320" cy="24717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ENGO TENG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685800" y="533520"/>
            <a:ext cx="464832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Los pollitos dic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Pío, pío, pío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Cuando tienen hamb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Cuando tienen frí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La gallina bus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El maíz y el tri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Les da la comi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Y les presta abri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Bajo sus dos ala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Acurrucadito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Hasta el otro día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Duermen los pollitos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3" descr="C:\WINDOWS\Application Data\Microsoft\Media Catalog\Downloaded Clips\cl38\j0141497.wmf"/>
          <p:cNvPicPr/>
          <p:nvPr/>
        </p:nvPicPr>
        <p:blipFill>
          <a:blip r:embed="rId1"/>
          <a:stretch/>
        </p:blipFill>
        <p:spPr>
          <a:xfrm>
            <a:off x="5562720" y="1371600"/>
            <a:ext cx="3352680" cy="2690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LOS POLLITOS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304920" y="1905120"/>
            <a:ext cx="502920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l corro la pat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omeremos ensa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Lo que comen los señ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Naranjitas y lim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upe, aup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¡ Sentadita me quedé!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4" descr="http://images.google.com/images?q=tbn:Cke5jMn5wmEJ:www.bridges4kids.org/images/ring-around-rosi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219320"/>
            <a:ext cx="2743200" cy="2377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L CORRO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026"/>
          <p:cNvSpPr/>
          <p:nvPr/>
        </p:nvSpPr>
        <p:spPr>
          <a:xfrm>
            <a:off x="2209680" y="1828800"/>
            <a:ext cx="4114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¿ QUÉ ES“CULTURA”?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3"/>
          <p:cNvSpPr/>
          <p:nvPr/>
        </p:nvSpPr>
        <p:spPr>
          <a:xfrm>
            <a:off x="1447920" y="0"/>
            <a:ext cx="571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04920" y="914400"/>
            <a:ext cx="883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enas noches, hasta mañ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s lunnis y los niñ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s vamos a la c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s vamos a la cama, nos vamos a la cam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s vamos a la cama, hasta mañ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-2995560" y="-1293840"/>
            <a:ext cx="3189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22"/>
          <p:cNvGrpSpPr/>
          <p:nvPr/>
        </p:nvGrpSpPr>
        <p:grpSpPr>
          <a:xfrm>
            <a:off x="-2995560" y="-1819440"/>
            <a:ext cx="10672560" cy="536760"/>
            <a:chOff x="-2995560" y="-1819440"/>
            <a:chExt cx="10672560" cy="536760"/>
          </a:xfrm>
        </p:grpSpPr>
        <p:grpSp>
          <p:nvGrpSpPr>
            <p:cNvPr id="275" name="Group 19"/>
            <p:cNvGrpSpPr/>
            <p:nvPr/>
          </p:nvGrpSpPr>
          <p:grpSpPr>
            <a:xfrm>
              <a:off x="-2995560" y="-1819440"/>
              <a:ext cx="10672560" cy="68400"/>
              <a:chOff x="-2995560" y="-1819440"/>
              <a:chExt cx="10672560" cy="68400"/>
            </a:xfrm>
          </p:grpSpPr>
          <p:sp>
            <p:nvSpPr>
              <p:cNvPr id="276" name="Rectangle 18"/>
              <p:cNvSpPr/>
              <p:nvPr/>
            </p:nvSpPr>
            <p:spPr>
              <a:xfrm>
                <a:off x="-2995560" y="-1819440"/>
                <a:ext cx="10672560" cy="684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6"/>
              <p:cNvSpPr/>
              <p:nvPr/>
            </p:nvSpPr>
            <p:spPr>
              <a:xfrm>
                <a:off x="-2995560" y="-1819440"/>
                <a:ext cx="10672560" cy="684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11"/>
            <p:cNvGrpSpPr/>
            <p:nvPr/>
          </p:nvGrpSpPr>
          <p:grpSpPr>
            <a:xfrm>
              <a:off x="-2995560" y="-1750680"/>
              <a:ext cx="3188880" cy="459720"/>
              <a:chOff x="-2995560" y="-1750680"/>
              <a:chExt cx="3188880" cy="459720"/>
            </a:xfrm>
          </p:grpSpPr>
          <p:sp>
            <p:nvSpPr>
              <p:cNvPr id="279" name="Rectangle 7"/>
              <p:cNvSpPr/>
              <p:nvPr/>
            </p:nvSpPr>
            <p:spPr>
              <a:xfrm>
                <a:off x="-2995560" y="-1750680"/>
                <a:ext cx="318888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8"/>
              <p:cNvSpPr/>
              <p:nvPr/>
            </p:nvSpPr>
            <p:spPr>
              <a:xfrm>
                <a:off x="-2995560" y="-1750680"/>
                <a:ext cx="269856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21"/>
            <p:cNvGrpSpPr/>
            <p:nvPr/>
          </p:nvGrpSpPr>
          <p:grpSpPr>
            <a:xfrm>
              <a:off x="193320" y="-1750680"/>
              <a:ext cx="6644880" cy="457200"/>
              <a:chOff x="193320" y="-1750680"/>
              <a:chExt cx="6644880" cy="457200"/>
            </a:xfrm>
          </p:grpSpPr>
          <p:sp>
            <p:nvSpPr>
              <p:cNvPr id="282" name="Rectangle 20"/>
              <p:cNvSpPr/>
              <p:nvPr/>
            </p:nvSpPr>
            <p:spPr>
              <a:xfrm>
                <a:off x="193320" y="-1750680"/>
                <a:ext cx="6644880" cy="45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193320" y="-1750680"/>
                <a:ext cx="6644880" cy="45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16"/>
            <p:cNvGrpSpPr/>
            <p:nvPr/>
          </p:nvGrpSpPr>
          <p:grpSpPr>
            <a:xfrm>
              <a:off x="-2995560" y="-1293480"/>
              <a:ext cx="8800920" cy="10800"/>
              <a:chOff x="-2995560" y="-1293480"/>
              <a:chExt cx="8800920" cy="10800"/>
            </a:xfrm>
          </p:grpSpPr>
          <p:sp>
            <p:nvSpPr>
              <p:cNvPr id="285" name="Rectangle 14"/>
              <p:cNvSpPr/>
              <p:nvPr/>
            </p:nvSpPr>
            <p:spPr>
              <a:xfrm>
                <a:off x="-2995560" y="-1293480"/>
                <a:ext cx="88009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15"/>
              <p:cNvSpPr/>
              <p:nvPr/>
            </p:nvSpPr>
            <p:spPr>
              <a:xfrm>
                <a:off x="-2995560" y="-1293480"/>
                <a:ext cx="88009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Rectangle 17"/>
            <p:cNvSpPr/>
            <p:nvPr/>
          </p:nvSpPr>
          <p:spPr>
            <a:xfrm>
              <a:off x="5805360" y="-1293480"/>
              <a:ext cx="2502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29"/>
          <p:cNvGrpSpPr/>
          <p:nvPr/>
        </p:nvGrpSpPr>
        <p:grpSpPr>
          <a:xfrm>
            <a:off x="-2995560" y="-1282680"/>
            <a:ext cx="15136920" cy="457560"/>
            <a:chOff x="-2995560" y="-1282680"/>
            <a:chExt cx="15136920" cy="457560"/>
          </a:xfrm>
        </p:grpSpPr>
        <p:sp>
          <p:nvSpPr>
            <p:cNvPr id="289" name="Rectangle 23"/>
            <p:cNvSpPr/>
            <p:nvPr/>
          </p:nvSpPr>
          <p:spPr>
            <a:xfrm>
              <a:off x="-2995560" y="-1282680"/>
              <a:ext cx="880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25"/>
            <p:cNvSpPr/>
            <p:nvPr/>
          </p:nvSpPr>
          <p:spPr>
            <a:xfrm>
              <a:off x="5805720" y="-1282680"/>
              <a:ext cx="633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26"/>
            <p:cNvSpPr/>
            <p:nvPr/>
          </p:nvSpPr>
          <p:spPr>
            <a:xfrm>
              <a:off x="-2995560" y="-825480"/>
              <a:ext cx="8801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28"/>
            <p:cNvSpPr/>
            <p:nvPr/>
          </p:nvSpPr>
          <p:spPr>
            <a:xfrm>
              <a:off x="5805720" y="-825480"/>
              <a:ext cx="6335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3" name="Picture 9" descr="http://www.rtve.es/tve/b/catalunya/imgmenus/tvecas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827440" y="-1704960"/>
            <a:ext cx="2400480" cy="239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http://www.rtve.es/tve/b/catalunya/imgmenus/rtv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-1704960"/>
            <a:ext cx="1143000" cy="217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4" descr="http://www.rtve.es/tve/b/loslunnis/img/fons04sup.jpg"/>
          <p:cNvPicPr/>
          <p:nvPr/>
        </p:nvPicPr>
        <p:blipFill>
          <a:blip r:embed="rId5"/>
          <a:stretch/>
        </p:blipFill>
        <p:spPr>
          <a:xfrm>
            <a:off x="-2827440" y="-1236600"/>
            <a:ext cx="2389320" cy="18252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5"/>
          <p:cNvGrpSpPr/>
          <p:nvPr/>
        </p:nvGrpSpPr>
        <p:grpSpPr>
          <a:xfrm>
            <a:off x="-2827440" y="-779400"/>
            <a:ext cx="46440" cy="857520"/>
            <a:chOff x="-2827440" y="-779400"/>
            <a:chExt cx="46440" cy="857520"/>
          </a:xfrm>
        </p:grpSpPr>
        <p:pic>
          <p:nvPicPr>
            <p:cNvPr id="297" name="Picture 31" descr="http://www.rtve.es/tve/b/loslunnis/img/menulateralizq.jpg"/>
            <p:cNvPicPr/>
            <p:nvPr/>
          </p:nvPicPr>
          <p:blipFill>
            <a:blip r:embed="rId6"/>
            <a:stretch/>
          </p:blipFill>
          <p:spPr>
            <a:xfrm>
              <a:off x="-2827440" y="-638640"/>
              <a:ext cx="1080" cy="47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69"/>
            <p:cNvSpPr/>
            <p:nvPr/>
          </p:nvSpPr>
          <p:spPr>
            <a:xfrm>
              <a:off x="-2824200" y="-613800"/>
              <a:ext cx="4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8"/>
            <p:cNvSpPr/>
            <p:nvPr/>
          </p:nvSpPr>
          <p:spPr>
            <a:xfrm>
              <a:off x="-2814480" y="-779400"/>
              <a:ext cx="24120" cy="473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67"/>
            <p:cNvSpPr/>
            <p:nvPr/>
          </p:nvSpPr>
          <p:spPr>
            <a:xfrm>
              <a:off x="-2823840" y="-626040"/>
              <a:ext cx="35640" cy="7041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1" name="Picture 35" descr="http://www.rtve.es/tve/b/loslunnis/menupag/lunera2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-2859120" y="19512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7" descr="http://www.rtve.es/tve/b/loslunnis/menupag/personajes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-2827440" y="820800"/>
            <a:ext cx="1828800" cy="3427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9" descr="http://www.rtve.es/tve/b/loslunnis/menupag/amigos1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-2827440" y="164304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1" descr="http://www.rtve.es/tve/b/loslunnis/menupag/recreo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-2827440" y="246528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3" descr="http://www.rtve.es/tve/b/loslunnis/menupag/fotos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-2827440" y="3287880"/>
            <a:ext cx="1828800" cy="342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5" descr="http://www.rtve.es/tve/b/loslunnis/menupag/canciones1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-2827440" y="4110120"/>
            <a:ext cx="1828800" cy="342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7" descr="http://www.rtve.es/tve/b/loslunnis/menupag/carta1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-2827440" y="493236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9" descr="http://www.rtve.es/tve/b/loslunnis/menupag/emision1.jpg"/>
          <p:cNvPicPr/>
          <p:nvPr/>
        </p:nvPicPr>
        <p:blipFill>
          <a:blip r:embed="rId21"/>
          <a:stretch/>
        </p:blipFill>
        <p:spPr>
          <a:xfrm>
            <a:off x="-2827440" y="575460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1" descr="http://www.rtve.es/tve/b/loslunnis/menupag/serie1.jpg"/>
          <p:cNvPicPr/>
          <p:nvPr/>
        </p:nvPicPr>
        <p:blipFill>
          <a:blip r:embed="rId22"/>
          <a:stretch/>
        </p:blipFill>
        <p:spPr>
          <a:xfrm>
            <a:off x="-2725560" y="657684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3" descr="aprendemos inglés"/>
          <p:cNvPicPr/>
          <p:nvPr/>
        </p:nvPicPr>
        <p:blipFill>
          <a:blip r:embed="rId23"/>
          <a:stretch/>
        </p:blipFill>
        <p:spPr>
          <a:xfrm>
            <a:off x="-2725560" y="7034040"/>
            <a:ext cx="1828800" cy="3430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9" descr="http://www.rtve.es/tve/b/loslunnis/img/menulateral.jpg"/>
          <p:cNvPicPr/>
          <p:nvPr/>
        </p:nvPicPr>
        <p:blipFill>
          <a:blip r:embed="rId24"/>
          <a:stretch/>
        </p:blipFill>
        <p:spPr>
          <a:xfrm>
            <a:off x="-2827440" y="7902720"/>
            <a:ext cx="1828800" cy="114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1" descr="http://www.manosalarte.com/los%20lunnis/s14-loslunnis1.gif"/>
          <p:cNvPicPr/>
          <p:nvPr/>
        </p:nvPicPr>
        <p:blipFill>
          <a:blip r:embed="rId25"/>
          <a:stretch/>
        </p:blipFill>
        <p:spPr>
          <a:xfrm>
            <a:off x="762120" y="4876920"/>
            <a:ext cx="6994440" cy="13255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62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ENAS NOCH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4" name="Los Lunis - Hasta Mañana.mp3" descr=""/>
          <p:cNvPicPr/>
          <p:nvPr/>
        </p:nvPicPr>
        <p:blipFill>
          <a:blip r:embed="rId26"/>
          <a:stretch/>
        </p:blipFill>
        <p:spPr>
          <a:xfrm>
            <a:off x="8381880" y="228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5" name="DefaultOcx"/>
          <p:cNvGraphicFramePr/>
          <p:nvPr/>
        </p:nvGraphicFramePr>
        <p:xfrm>
          <a:off x="-2995560" y="-1819440"/>
          <a:ext cx="6389640" cy="571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16" name="DefaultOcx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-2995560" y="-1819440"/>
                    <a:ext cx="6389640" cy="571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436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S PARA USAR EN CLAS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Text Box 1027"/>
          <p:cNvSpPr/>
          <p:nvPr/>
        </p:nvSpPr>
        <p:spPr>
          <a:xfrm>
            <a:off x="152280" y="1219320"/>
            <a:ext cx="85345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acticar pronunci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a una rúb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rea de grabar en “Google Voz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tar villanc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deos en Youtu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AS PARA USAR EN CLAS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0" name="Text Box 1027"/>
          <p:cNvSpPr/>
          <p:nvPr/>
        </p:nvSpPr>
        <p:spPr>
          <a:xfrm>
            <a:off x="152280" y="1219320"/>
            <a:ext cx="8839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ctura con espacios en blan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vantar cuando oyen su palab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ñadir un párraf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uar or usar títe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33412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2057400" y="574560"/>
            <a:ext cx="484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PREGUNTAS?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REN MARTÍN SÁNCHEZ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SANCHEZ@SOUTHSENECA.ORG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2514600" y="547848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howcard Gothic"/>
              </a:rPr>
              <a:t>¡Gracia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1219320" y="1066680"/>
            <a:ext cx="655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ltura es una combinación de pensamientos, sentimientos, actitudes, creencias, valores y comportamientos que son compartidos por un grupo  racial, étnico, religioso o soci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 DEFINICIÓN DE CULTURA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228600" y="685800"/>
            <a:ext cx="380988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cial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igious beli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ligious ritu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rtance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in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hild-raising beli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s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as about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1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liday cust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as about fair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3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as about friend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4114800" y="762120"/>
            <a:ext cx="50292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4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deas about mode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ting ha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7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derstanding of the natural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8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pt of sel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portance of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0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pt of beau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1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2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yles of 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3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neral world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4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pt of personal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5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ules of social etiqu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6.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 OF CULTURE (PEACE CORPS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A CULTURA EN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NCIONES INFANTILES</a:t>
            </a:r>
            <a:endParaRPr b="0" lang="en-US" sz="6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258840" y="152280"/>
            <a:ext cx="8885160" cy="60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menta el vocabul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tént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imina “¿cómo se canta….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ena entrada a conversaciones sobre cul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muestra diferencias regio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NEFICIOS DE USAR CANCIONES INFANTI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20" y="27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ES DE EMPEZ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7" name="Text Box 1027"/>
          <p:cNvSpPr/>
          <p:nvPr/>
        </p:nvSpPr>
        <p:spPr>
          <a:xfrm>
            <a:off x="152280" y="1219320"/>
            <a:ext cx="85345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quiliza los que “no pueden canta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 jugue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je una canción con palabras que ya cono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ieza con algo senci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990720" y="1676520"/>
            <a:ext cx="5257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abla el chuch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 no te escuch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4" descr="C:\Documents and Settings\Karen\Application Data\Microsoft\Media Catalog\Downloaded Clips\cl70\j0280865.wmf"/>
          <p:cNvPicPr/>
          <p:nvPr/>
        </p:nvPicPr>
        <p:blipFill>
          <a:blip r:embed="rId1"/>
          <a:stretch/>
        </p:blipFill>
        <p:spPr>
          <a:xfrm>
            <a:off x="4952880" y="3581280"/>
            <a:ext cx="2171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533520" y="1447920"/>
            <a:ext cx="6553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 fue al mo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 encontró un hue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 fue a por leñ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ste lo frió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 este lo comi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¡ Mira que gordito quedó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6" descr="C:\Documents and Settings\KSANCHEZ\Application Data\Microsoft\Media Catalog\Downloaded Clips\cl5b\j0229879.wmf"/>
          <p:cNvPicPr/>
          <p:nvPr/>
        </p:nvPicPr>
        <p:blipFill>
          <a:blip r:embed="rId1"/>
          <a:stretch/>
        </p:blipFill>
        <p:spPr>
          <a:xfrm>
            <a:off x="5867280" y="1905120"/>
            <a:ext cx="2843280" cy="29718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 MON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5:59:37Z</dcterms:created>
  <dc:creator>TLAPOINT</dc:creator>
  <dc:description/>
  <dc:language>en-US</dc:language>
  <cp:lastModifiedBy>Karen Sanchez</cp:lastModifiedBy>
  <dcterms:modified xsi:type="dcterms:W3CDTF">2016-03-04T18:29:41Z</dcterms:modified>
  <cp:revision>104</cp:revision>
  <dc:subject/>
  <dc:title>PowerPoint Presentation</dc:title>
</cp:coreProperties>
</file>